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DAD6-8AAA-4B8B-867B-D2E79578FB4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re complete  up to date animated Tipu Ake Powerpoint presentation can be downloaded from www.tipuake.org.nz.  This site also contains the full model pdf document and many inspiring stories and feed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hyperlink" Target="http://www.tipuake.org.nz/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95680" y="4038480"/>
            <a:ext cx="2514600" cy="5335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ail d’équip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roj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3352680"/>
            <a:ext cx="2590560" cy="533520"/>
          </a:xfrm>
          <a:prstGeom prst="rect">
            <a:avLst/>
          </a:prstGeom>
          <a:solidFill>
            <a:srgbClr val="99ff99">
              <a:alpha val="5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u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organisationn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76880" y="2666880"/>
            <a:ext cx="2514600" cy="533520"/>
          </a:xfrm>
          <a:prstGeom prst="rect">
            <a:avLst/>
          </a:prstGeom>
          <a:solidFill>
            <a:srgbClr val="ccec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o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collecti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1981080"/>
            <a:ext cx="2514600" cy="533520"/>
          </a:xfrm>
          <a:prstGeom prst="rect">
            <a:avLst/>
          </a:prstGeom>
          <a:solidFill>
            <a:srgbClr val="efcef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es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collecti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410080"/>
            <a:ext cx="2971800" cy="609840"/>
          </a:xfrm>
          <a:prstGeom prst="rect">
            <a:avLst/>
          </a:prstGeom>
          <a:gradFill rotWithShape="0">
            <a:gsLst>
              <a:gs pos="0">
                <a:srgbClr val="fcc2be"/>
              </a:gs>
              <a:gs pos="100000">
                <a:srgbClr val="d4a3a0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rants souterrains (cha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219320"/>
            <a:ext cx="3124080" cy="609480"/>
          </a:xfrm>
          <a:prstGeom prst="rect">
            <a:avLst/>
          </a:prstGeom>
          <a:gradFill rotWithShape="0">
            <a:gsLst>
              <a:gs pos="0">
                <a:srgbClr val="b08fab"/>
              </a:gs>
              <a:gs pos="50000">
                <a:srgbClr val="fecef7"/>
              </a:gs>
              <a:gs pos="100000">
                <a:srgbClr val="b08fab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en-êtr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univers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5715000"/>
            <a:ext cx="228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66"/>
                </a:solidFill>
                <a:latin typeface="Times New Roman"/>
              </a:rPr>
              <a:t>Parasites -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bligent à recyc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pproche ré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200" y="5410080"/>
            <a:ext cx="85824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um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280" y="228600"/>
            <a:ext cx="2057040" cy="1130400"/>
            <a:chOff x="152280" y="228600"/>
            <a:chExt cx="2057040" cy="1130400"/>
          </a:xfrm>
        </p:grpSpPr>
        <p:pic>
          <p:nvPicPr>
            <p:cNvPr id="54" name="na01062_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057040" cy="82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40360" y="1051200"/>
              <a:ext cx="1423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a (Bien-êt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-148680" y="1295280"/>
            <a:ext cx="1397520" cy="878040"/>
            <a:chOff x="-148680" y="1295280"/>
            <a:chExt cx="1397520" cy="878040"/>
          </a:xfrm>
        </p:grpSpPr>
        <p:pic>
          <p:nvPicPr>
            <p:cNvPr id="57" name="an02097_" descr=""/>
            <p:cNvPicPr/>
            <p:nvPr/>
          </p:nvPicPr>
          <p:blipFill>
            <a:blip r:embed="rId2"/>
            <a:stretch/>
          </p:blipFill>
          <p:spPr>
            <a:xfrm>
              <a:off x="58680" y="1581120"/>
              <a:ext cx="5414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-148680" y="1295280"/>
              <a:ext cx="1397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0a655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30a655"/>
                  </a:solidFill>
                  <a:latin typeface="Times New Roman"/>
                </a:rPr>
                <a:t>Manu (</a:t>
              </a:r>
              <a:r>
                <a:rPr b="0" lang="en-US" sz="1200" spc="-1" strike="noStrike">
                  <a:solidFill>
                    <a:srgbClr val="30a655"/>
                  </a:solidFill>
                  <a:latin typeface="Times New Roman"/>
                </a:rPr>
                <a:t>oiseaux</a:t>
              </a: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28600" y="1600200"/>
            <a:ext cx="1748880" cy="4419720"/>
            <a:chOff x="228600" y="1600200"/>
            <a:chExt cx="1748880" cy="4419720"/>
          </a:xfrm>
        </p:grpSpPr>
        <p:pic>
          <p:nvPicPr>
            <p:cNvPr id="60" name="na01441_" descr=""/>
            <p:cNvPicPr/>
            <p:nvPr/>
          </p:nvPicPr>
          <p:blipFill>
            <a:blip r:embed="rId3"/>
            <a:stretch/>
          </p:blipFill>
          <p:spPr>
            <a:xfrm>
              <a:off x="287640" y="1600200"/>
              <a:ext cx="148284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83760" y="4003920"/>
              <a:ext cx="1361160" cy="2016000"/>
            </a:xfrm>
            <a:prstGeom prst="rect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444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" y="5334120"/>
              <a:ext cx="153324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apatuanuku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Terre Mè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3720" y="1600200"/>
              <a:ext cx="74376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arb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425760" y="2895480"/>
            <a:ext cx="1832040" cy="307800"/>
            <a:chOff x="3425760" y="2895480"/>
            <a:chExt cx="1832040" cy="307800"/>
          </a:xfrm>
        </p:grpSpPr>
        <p:sp>
          <p:nvSpPr>
            <p:cNvPr id="65" name=""/>
            <p:cNvSpPr/>
            <p:nvPr/>
          </p:nvSpPr>
          <p:spPr>
            <a:xfrm flipH="1">
              <a:off x="3505320" y="2895480"/>
              <a:ext cx="1752480" cy="14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25760" y="2895480"/>
              <a:ext cx="1586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Occasions/Risq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038480" y="4724280"/>
            <a:ext cx="2590920" cy="495360"/>
          </a:xfrm>
          <a:prstGeom prst="rect">
            <a:avLst/>
          </a:prstGeom>
          <a:solidFill>
            <a:srgbClr val="f9a44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dershi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partag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066680" y="2743200"/>
            <a:ext cx="887400" cy="942840"/>
            <a:chOff x="1066680" y="2743200"/>
            <a:chExt cx="887400" cy="942840"/>
          </a:xfrm>
        </p:grpSpPr>
        <p:pic>
          <p:nvPicPr>
            <p:cNvPr id="69" name="j0366786" descr=""/>
            <p:cNvPicPr/>
            <p:nvPr/>
          </p:nvPicPr>
          <p:blipFill>
            <a:blip r:embed="rId4"/>
            <a:stretch/>
          </p:blipFill>
          <p:spPr>
            <a:xfrm>
              <a:off x="1295280" y="3200400"/>
              <a:ext cx="48420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66680" y="2743200"/>
              <a:ext cx="88740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Ngara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parasites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 rot="16200000">
            <a:off x="7355520" y="3767760"/>
            <a:ext cx="3125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s parasit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u ris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915400" y="2209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6200" y="2057400"/>
            <a:ext cx="11170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await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l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4400" y="1371600"/>
            <a:ext cx="81396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gah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ru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7280" y="4724280"/>
            <a:ext cx="90216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ak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rai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7640" y="4038480"/>
            <a:ext cx="8902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aci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480" y="3352680"/>
            <a:ext cx="74520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n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ro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5720" y="1447920"/>
            <a:ext cx="16491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0a655"/>
                </a:solidFill>
                <a:latin typeface="Times New Roman"/>
              </a:rPr>
              <a:t>Oiseaux </a:t>
            </a:r>
            <a:r>
              <a:rPr b="0" i="1" lang="en-US" sz="1400" spc="-1" strike="noStrike">
                <a:solidFill>
                  <a:srgbClr val="30a655"/>
                </a:solidFill>
                <a:latin typeface="Times New Roman"/>
              </a:rPr>
              <a:t>–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long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reviennent plus ha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che pro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6560" y="2666880"/>
            <a:ext cx="10378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ranch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276720" y="5181120"/>
            <a:ext cx="914400" cy="336600"/>
            <a:chOff x="3276720" y="5181120"/>
            <a:chExt cx="914400" cy="336600"/>
          </a:xfrm>
        </p:grpSpPr>
        <p:sp>
          <p:nvSpPr>
            <p:cNvPr id="81" name=""/>
            <p:cNvSpPr/>
            <p:nvPr/>
          </p:nvSpPr>
          <p:spPr>
            <a:xfrm>
              <a:off x="3276720" y="5181480"/>
              <a:ext cx="9144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9900"/>
                  </a:solidFill>
                  <a:latin typeface="Times New Roman"/>
                </a:rPr>
                <a:t>Cou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191120" y="5181120"/>
              <a:ext cx="0" cy="336600"/>
            </a:xfrm>
            <a:prstGeom prst="line">
              <a:avLst/>
            </a:prstGeom>
            <a:ln w="12600">
              <a:solidFill>
                <a:srgbClr val="ff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676520" y="3582720"/>
            <a:ext cx="307800" cy="983160"/>
            <a:chOff x="1676520" y="3582720"/>
            <a:chExt cx="307800" cy="983160"/>
          </a:xfrm>
        </p:grpSpPr>
        <p:sp>
          <p:nvSpPr>
            <p:cNvPr id="84" name=""/>
            <p:cNvSpPr/>
            <p:nvPr/>
          </p:nvSpPr>
          <p:spPr>
            <a:xfrm>
              <a:off x="1676520" y="3789000"/>
              <a:ext cx="0" cy="762120"/>
            </a:xfrm>
            <a:prstGeom prst="line">
              <a:avLst/>
            </a:prstGeom>
            <a:ln w="12600">
              <a:solidFill>
                <a:srgbClr val="fe3a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338840" y="3920400"/>
              <a:ext cx="983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détruis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6080" y="4648320"/>
            <a:ext cx="1399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o /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9680" y="3962520"/>
            <a:ext cx="989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poti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0200" y="3276720"/>
            <a:ext cx="701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gid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7280" y="2666880"/>
            <a:ext cx="768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1828800"/>
            <a:ext cx="142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c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1880" y="1219320"/>
            <a:ext cx="874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tu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5105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si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5240" y="251460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70680" y="259092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co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2600" y="137160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nt s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résul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6640" y="495288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9400" y="39625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91600" y="3276720"/>
            <a:ext cx="7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ac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51200" y="19051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6440" y="563868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 problè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ogo%20scan%204x3%20jpg" descr=""/>
          <p:cNvPicPr/>
          <p:nvPr/>
        </p:nvPicPr>
        <p:blipFill>
          <a:blip r:embed="rId5"/>
          <a:stretch/>
        </p:blipFill>
        <p:spPr>
          <a:xfrm>
            <a:off x="7848720" y="228600"/>
            <a:ext cx="1066680" cy="8208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3200400" y="2209680"/>
            <a:ext cx="2362320" cy="838080"/>
            <a:chOff x="3200400" y="2209680"/>
            <a:chExt cx="2362320" cy="838080"/>
          </a:xfrm>
        </p:grpSpPr>
        <p:sp>
          <p:nvSpPr>
            <p:cNvPr id="103" name=""/>
            <p:cNvSpPr/>
            <p:nvPr/>
          </p:nvSpPr>
          <p:spPr>
            <a:xfrm flipH="1">
              <a:off x="3657600" y="2209680"/>
              <a:ext cx="1905120" cy="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2209680"/>
              <a:ext cx="15890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Innov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2743200"/>
              <a:ext cx="304920" cy="304560"/>
            </a:xfrm>
            <a:prstGeom prst="ellipse">
              <a:avLst/>
            </a:prstGeom>
            <a:noFill/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2590560"/>
              <a:ext cx="1800" cy="1526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720" y="2895480"/>
              <a:ext cx="152280" cy="14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2680" y="2819160"/>
              <a:ext cx="1800" cy="1526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3346200" y="221580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30a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629400" y="1600200"/>
            <a:ext cx="2057400" cy="4114800"/>
            <a:chOff x="6629400" y="1600200"/>
            <a:chExt cx="2057400" cy="4114800"/>
          </a:xfrm>
        </p:grpSpPr>
        <p:sp>
          <p:nvSpPr>
            <p:cNvPr id="111" name=""/>
            <p:cNvSpPr/>
            <p:nvPr/>
          </p:nvSpPr>
          <p:spPr>
            <a:xfrm>
              <a:off x="8686800" y="1600200"/>
              <a:ext cx="0" cy="38098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2120" y="1600200"/>
              <a:ext cx="21744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705720" y="5715000"/>
              <a:ext cx="17524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23400" y="2286000"/>
              <a:ext cx="36180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34320" y="3048120"/>
              <a:ext cx="50652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73960" y="3657600"/>
              <a:ext cx="72216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39080" y="4343400"/>
              <a:ext cx="10126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400" y="5029200"/>
              <a:ext cx="127800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34520" y="2286000"/>
              <a:ext cx="0" cy="31240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3048120"/>
              <a:ext cx="0" cy="23619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29600" y="3657600"/>
              <a:ext cx="0" cy="1752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77320" y="4343400"/>
              <a:ext cx="0" cy="10666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24680" y="5029200"/>
              <a:ext cx="0" cy="3808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7689240" y="534024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7536960" y="534024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8146440" y="534024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7994160" y="534024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7842240" y="5340600"/>
              <a:ext cx="379440" cy="36648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8303400" y="5336640"/>
              <a:ext cx="379440" cy="37440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71880" y="3048120"/>
            <a:ext cx="1805040" cy="2743200"/>
            <a:chOff x="3071880" y="3048120"/>
            <a:chExt cx="1805040" cy="2743200"/>
          </a:xfrm>
        </p:grpSpPr>
        <p:sp>
          <p:nvSpPr>
            <p:cNvPr id="131" name=""/>
            <p:cNvSpPr/>
            <p:nvPr/>
          </p:nvSpPr>
          <p:spPr>
            <a:xfrm>
              <a:off x="3352680" y="3048120"/>
              <a:ext cx="0" cy="243864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3581640"/>
              <a:ext cx="1143000" cy="648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33920" y="4267440"/>
              <a:ext cx="761760" cy="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33920" y="4953240"/>
              <a:ext cx="304560" cy="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2877480" y="4242240"/>
              <a:ext cx="669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2680" y="320076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541044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52680" y="457236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388656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7600" y="5791320"/>
              <a:ext cx="76320" cy="0"/>
            </a:xfrm>
            <a:prstGeom prst="line">
              <a:avLst/>
            </a:prstGeom>
            <a:ln w="9360">
              <a:solidFill>
                <a:srgbClr val="30a65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114800" y="5410080"/>
            <a:ext cx="1600200" cy="280440"/>
            <a:chOff x="4114800" y="5410080"/>
            <a:chExt cx="1600200" cy="280440"/>
          </a:xfrm>
        </p:grpSpPr>
        <p:sp>
          <p:nvSpPr>
            <p:cNvPr id="142" name=""/>
            <p:cNvSpPr/>
            <p:nvPr/>
          </p:nvSpPr>
          <p:spPr>
            <a:xfrm>
              <a:off x="4281480" y="5410080"/>
              <a:ext cx="1433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Idées ger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5486040"/>
              <a:ext cx="166680" cy="1526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V="1">
            <a:off x="4191120" y="1828800"/>
            <a:ext cx="1307880" cy="2666880"/>
          </a:xfrm>
          <a:prstGeom prst="line">
            <a:avLst/>
          </a:prstGeom>
          <a:ln w="1260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80920" y="4419720"/>
            <a:ext cx="639360" cy="307080"/>
            <a:chOff x="3580920" y="4419720"/>
            <a:chExt cx="639360" cy="307080"/>
          </a:xfrm>
        </p:grpSpPr>
        <p:sp>
          <p:nvSpPr>
            <p:cNvPr id="146" name=""/>
            <p:cNvSpPr/>
            <p:nvPr/>
          </p:nvSpPr>
          <p:spPr>
            <a:xfrm flipH="1" flipV="1">
              <a:off x="4178160" y="4495320"/>
              <a:ext cx="12960" cy="228600"/>
            </a:xfrm>
            <a:prstGeom prst="line">
              <a:avLst/>
            </a:prstGeom>
            <a:ln w="1260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80920" y="4419720"/>
              <a:ext cx="6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9900"/>
                  </a:solidFill>
                  <a:latin typeface="Times New Roman"/>
                </a:rPr>
                <a:t>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11280" y="4343400"/>
            <a:ext cx="925200" cy="307800"/>
            <a:chOff x="611280" y="4343400"/>
            <a:chExt cx="925200" cy="307800"/>
          </a:xfrm>
        </p:grpSpPr>
        <p:sp>
          <p:nvSpPr>
            <p:cNvPr id="149" name=""/>
            <p:cNvSpPr/>
            <p:nvPr/>
          </p:nvSpPr>
          <p:spPr>
            <a:xfrm flipH="1">
              <a:off x="914400" y="4647960"/>
              <a:ext cx="380880" cy="0"/>
            </a:xfrm>
            <a:prstGeom prst="line">
              <a:avLst/>
            </a:prstGeom>
            <a:ln w="12600">
              <a:solidFill>
                <a:srgbClr val="fe3a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1280" y="4343400"/>
              <a:ext cx="925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ecyc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5280" y="4495680"/>
              <a:ext cx="154080" cy="152280"/>
            </a:xfrm>
            <a:custGeom>
              <a:avLst/>
              <a:gdLst/>
              <a:ahLst/>
              <a:rect l="l" t="t" r="r" b="b"/>
              <a:pathLst>
                <a:path w="49" h="96">
                  <a:moveTo>
                    <a:pt x="48" y="0"/>
                  </a:moveTo>
                  <a:cubicBezTo>
                    <a:pt x="47" y="9"/>
                    <a:pt x="49" y="36"/>
                    <a:pt x="41" y="52"/>
                  </a:cubicBezTo>
                  <a:cubicBezTo>
                    <a:pt x="33" y="68"/>
                    <a:pt x="9" y="87"/>
                    <a:pt x="0" y="96"/>
                  </a:cubicBezTo>
                </a:path>
              </a:pathLst>
            </a:custGeom>
            <a:noFill/>
            <a:ln w="12600">
              <a:solidFill>
                <a:srgbClr val="fe3a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28600" y="2133720"/>
            <a:ext cx="1458720" cy="3188880"/>
            <a:chOff x="228600" y="2133720"/>
            <a:chExt cx="1458720" cy="3188880"/>
          </a:xfrm>
        </p:grpSpPr>
        <p:sp>
          <p:nvSpPr>
            <p:cNvPr id="153" name=""/>
            <p:cNvSpPr/>
            <p:nvPr/>
          </p:nvSpPr>
          <p:spPr>
            <a:xfrm>
              <a:off x="228600" y="2133720"/>
              <a:ext cx="0" cy="161928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33520" y="3396960"/>
              <a:ext cx="0" cy="163188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" y="3753000"/>
              <a:ext cx="0" cy="127620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4960" y="4745160"/>
              <a:ext cx="115236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3"/>
                  </a:solidFill>
                  <a:latin typeface="Times New Roman"/>
                </a:rPr>
                <a:t>rajeuniss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3"/>
                  </a:solidFill>
                  <a:latin typeface="Times New Roman"/>
                </a:rPr>
                <a:t>diversif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3280" y="4952880"/>
              <a:ext cx="301680" cy="204840"/>
            </a:xfrm>
            <a:custGeom>
              <a:avLst/>
              <a:gdLst/>
              <a:ahLst/>
              <a:rect l="l" t="t" r="r" b="b"/>
              <a:pathLst>
                <a:path w="190" h="129">
                  <a:moveTo>
                    <a:pt x="0" y="0"/>
                  </a:moveTo>
                  <a:cubicBezTo>
                    <a:pt x="2" y="11"/>
                    <a:pt x="1" y="48"/>
                    <a:pt x="10" y="68"/>
                  </a:cubicBezTo>
                  <a:cubicBezTo>
                    <a:pt x="19" y="88"/>
                    <a:pt x="35" y="111"/>
                    <a:pt x="52" y="120"/>
                  </a:cubicBezTo>
                  <a:cubicBezTo>
                    <a:pt x="69" y="129"/>
                    <a:pt x="94" y="127"/>
                    <a:pt x="115" y="120"/>
                  </a:cubicBezTo>
                  <a:cubicBezTo>
                    <a:pt x="136" y="113"/>
                    <a:pt x="166" y="99"/>
                    <a:pt x="178" y="79"/>
                  </a:cubicBezTo>
                  <a:cubicBezTo>
                    <a:pt x="190" y="59"/>
                    <a:pt x="187" y="16"/>
                    <a:pt x="189" y="0"/>
                  </a:cubicBezTo>
                </a:path>
              </a:pathLst>
            </a:custGeom>
            <a:noFill/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029200" y="1828800"/>
            <a:ext cx="1828800" cy="3581280"/>
            <a:chOff x="5029200" y="1828800"/>
            <a:chExt cx="1828800" cy="3581280"/>
          </a:xfrm>
        </p:grpSpPr>
        <p:sp>
          <p:nvSpPr>
            <p:cNvPr id="159" name=""/>
            <p:cNvSpPr/>
            <p:nvPr/>
          </p:nvSpPr>
          <p:spPr>
            <a:xfrm>
              <a:off x="5334120" y="457200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38680" y="3886200"/>
              <a:ext cx="15264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9920" y="320040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251460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29200" y="525780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5720" y="182880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280" y="6324480"/>
            <a:ext cx="8686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pu Ake Lifecycle  – A Leadership Model for Innovative Organisations”   © 2001 Te Whaiti Nui-a-Toi  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tipuake.org.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our website for a wide range of self help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60480" y="6019920"/>
            <a:ext cx="3307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Chanc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dité, exploitation, agression, peu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6019920"/>
            <a:ext cx="1447920" cy="307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Whiro (chancr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5640" y="762120"/>
            <a:ext cx="2749320" cy="685800"/>
            <a:chOff x="2285640" y="762120"/>
            <a:chExt cx="2749320" cy="685800"/>
          </a:xfrm>
        </p:grpSpPr>
        <p:sp>
          <p:nvSpPr>
            <p:cNvPr id="169" name=""/>
            <p:cNvSpPr/>
            <p:nvPr/>
          </p:nvSpPr>
          <p:spPr>
            <a:xfrm>
              <a:off x="3043800" y="106668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e3cb1d"/>
                  </a:solidFill>
                  <a:latin typeface="Times New Roman"/>
                </a:rPr>
                <a:t>le soleil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AU" sz="1400" spc="-1" strike="noStrike">
                  <a:solidFill>
                    <a:srgbClr val="000000"/>
                  </a:solidFill>
                  <a:latin typeface="Times New Roman"/>
                </a:rPr>
                <a:t>énergie exter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38280" y="762120"/>
              <a:ext cx="457200" cy="457200"/>
            </a:xfrm>
            <a:prstGeom prst="ellipse">
              <a:avLst/>
            </a:prstGeom>
            <a:solidFill>
              <a:srgbClr val="ede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6880" y="1143000"/>
              <a:ext cx="0" cy="304920"/>
            </a:xfrm>
            <a:prstGeom prst="line">
              <a:avLst/>
            </a:prstGeom>
            <a:ln w="9360">
              <a:solidFill>
                <a:srgbClr val="ede8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520" y="1143000"/>
              <a:ext cx="228600" cy="152280"/>
            </a:xfrm>
            <a:prstGeom prst="line">
              <a:avLst/>
            </a:prstGeom>
            <a:ln w="9360">
              <a:solidFill>
                <a:srgbClr val="ede8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285640" y="1066680"/>
              <a:ext cx="304920" cy="228600"/>
            </a:xfrm>
            <a:prstGeom prst="line">
              <a:avLst/>
            </a:prstGeom>
            <a:ln w="9360">
              <a:solidFill>
                <a:srgbClr val="ede8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5486400" cy="838080"/>
          </a:xfrm>
          <a:prstGeom prst="rect">
            <a:avLst/>
          </a:prstGeom>
          <a:solidFill>
            <a:srgbClr val="ffff0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u Ake ki te Ora – Cycle de vie   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 modèle de leadership pour les organisations innovat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0:30:38Z</dcterms:created>
  <dc:creator>Peter Goldsbury</dc:creator>
  <dc:description/>
  <dc:language>en-US</dc:language>
  <cp:lastModifiedBy>Peter Goldsbury</cp:lastModifiedBy>
  <dcterms:modified xsi:type="dcterms:W3CDTF">2004-01-22T20:43:05Z</dcterms:modified>
  <cp:revision>128</cp:revision>
  <dc:subject/>
  <dc:title>Work breakdown </dc:title>
</cp:coreProperties>
</file>